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EA2-E9A9-4AF6-88B0-2A3C0EB1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F4F0-6174-435E-8102-BF86F83A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252-0CA0-4C79-872C-42B6B62A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359-9451-4248-9FDD-601D4A65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DAB-9371-4C97-8E1E-B1A31106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C43-3CBF-46B8-932D-CFB199A7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AE33-7297-4E3A-89B6-800EC701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3DF-B646-4290-97CA-DC1466CF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DD23-C9E0-48D1-9352-B9EEB7B6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93DD-3E5C-488B-939B-5DB04008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28D7-B3F0-4AFB-9C9D-26DFA3EA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A9C6-2E7F-4685-A728-96C2AE34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8778-C79C-416D-8DD0-BE92E5C60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46600" y="4917960"/>
            <a:ext cx="597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CIANO MENESES CARDOSO DA SILVA, D.S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rente de Outo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960" y="2492280"/>
            <a:ext cx="9027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Procedimentos para obtenção 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outorga para mineraçã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311640" cy="144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14360" y="173052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intendência de Outorga e Cobrança - S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óximos pas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ANA promoverá uma campanha de regularização dos usuários do setor minerário em rios de domínio da Uni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o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r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beira do Igu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Jequitinhon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raíba do Sul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Obrigado pela atençã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ciano Meneses Cardoso da Sil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ente de Outorga da S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meneses@ana.gov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1) 445-52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-270000"/>
            <a:ext cx="8064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cessos extração em cav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9080" y="590400"/>
            <a:ext cx="9002520" cy="3108600"/>
            <a:chOff x="19080" y="590400"/>
            <a:chExt cx="9002520" cy="31086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rcRect l="5861" t="8007" r="2635" b="3142"/>
            <a:stretch/>
          </p:blipFill>
          <p:spPr>
            <a:xfrm>
              <a:off x="19080" y="590400"/>
              <a:ext cx="9002520" cy="310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334120" y="2743200"/>
              <a:ext cx="26035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Durante a extr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8160" y="3689280"/>
            <a:ext cx="8940600" cy="3111480"/>
            <a:chOff x="38160" y="3689280"/>
            <a:chExt cx="8940600" cy="3111480"/>
          </a:xfrm>
        </p:grpSpPr>
        <p:pic>
          <p:nvPicPr>
            <p:cNvPr id="71" name="" descr=""/>
            <p:cNvPicPr/>
            <p:nvPr/>
          </p:nvPicPr>
          <p:blipFill>
            <a:blip r:embed="rId2"/>
            <a:srcRect l="5771" t="7479" r="0" b="3155"/>
            <a:stretch/>
          </p:blipFill>
          <p:spPr>
            <a:xfrm>
              <a:off x="38160" y="3689280"/>
              <a:ext cx="8940600" cy="31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181480" y="5867280"/>
              <a:ext cx="26035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Após a extr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0" y="3699000"/>
            <a:ext cx="912024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822960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e administra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ormulários de solicitação de outo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dentificação do reque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va de que o requerente possui prioridade à obtenção do titulo minerário junto ao DN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icenciamento ambiental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e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6425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scrição do sistema de captação ou lanç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aracterização dos efluentes, incluindo esgotos sanit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riação da vazão a cada mês (vazão, h/dia, dias/mês, volume diário, volume mens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zão atual ou fu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-126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e do empreendi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86425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ipologia da extração mine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lanta planialtimétrica, georreferenciada, das instalações, conten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ordenadas do ponto/trecho de captação ou lanç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manancial de captação ou lanç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áreas de lavra, deposição de minério/rejeito, esté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ruturas destinadas à contenção de resíduos originados do beneficiamento de miné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dicação da localização dos tanques de contenção de óleos e grax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racterização geotécnica do terr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lanço hídrico do proces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170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e do empreendimen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6425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luxograma simplificado do processo produtivo, indicando as fases em que é utilizada a águ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d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nidade (t, kg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dução (unidades/mê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umo de água (m³/unid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logias de miner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9680" y="993240"/>
            <a:ext cx="87328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m leito de 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ção de areia (draga ou bomba de sucçã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á outorga de captação da água utilizada para transporte da polpa para o pátio de estoc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ão há outorga para o revolvimento do leito do 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ção de ouro e diam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enas revolvimento do leito do 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ão há captação nem lançamento de eflu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ão há outo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logias de miner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9680" y="993240"/>
            <a:ext cx="87328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Times New Roman"/>
              </a:rPr>
              <a:t>Em leito de rio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svio temporário do le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á outorga para obra hidráu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lteração de regime, velocidade de escoamento, enchent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nterferência com naveg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rragem de rejeito no le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á outorga para obra hidráu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ática sendo coi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rragem para reservação (regularização de vazõ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á outorga para obra hidráu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logias de miner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9680" y="993240"/>
            <a:ext cx="87328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Fora de leito de 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avação com exposição de nível d’água (extração em cav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avação a meia encosta a se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monte por explo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 todos esses casos é possível ha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vagem de minério (benefici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de minério (polpa em minerodu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to de água para desmonte (desmonte hidrául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outorga para cap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8408880" y="155880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9680" y="993240"/>
            <a:ext cx="87328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tegorias de outorga para miner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s hidráu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ência” da ANA (23 proces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 outor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indefer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em anál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aguardando documen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21:11:43Z</dcterms:created>
  <dc:creator>Meu Computador</dc:creator>
  <dc:description/>
  <dc:language>en-US</dc:language>
  <cp:lastModifiedBy>LUCIANO</cp:lastModifiedBy>
  <dcterms:modified xsi:type="dcterms:W3CDTF">2004-03-15T22:21:29Z</dcterms:modified>
  <cp:revision>89</cp:revision>
  <dc:subject/>
  <dc:title>Slide sem título </dc:title>
</cp:coreProperties>
</file>